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816-217D-49D6-88B6-B5E8BC03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A83-3555-4477-A710-0AD257FA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D10-E8A8-48CB-9AF6-73E2B530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333-150B-4C9C-828D-FA5A05F4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8FE8-C19E-4656-A2B8-05E1E171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5EE4-F1ED-471D-A093-E855A4DF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4644-FEB3-45CD-AB8A-71B609BB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B5D4-078D-41E7-A9C5-0321D5F7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AEDA-9B9C-4237-A3CD-B893281F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1D0C-5C63-4156-9305-2A0DCD41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E24D-F421-45A9-A9B9-F24DBE0B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ABD-37C8-48EE-8269-39FE5559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A835-1FF4-4B9C-AC18-B2FDAED4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5644-BCD2-48E6-9E90-BC5AD166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64F5-BF33-423A-B953-3E6712F7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5FEA-C5BD-466A-B9CE-2ABD1A3A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6255-FD4B-4867-BC64-A598E899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72C8-B1FE-4B49-9B4A-F44D2C30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DD431-217C-4843-ADD7-F946DCE0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9AC4-AC42-42B7-B02A-A8697EFE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43D6-606C-4EA8-84FB-95083654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126A-3AC5-4072-87C0-176CBAA4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A43-3FA2-4FEC-B0E9-9D64E7D8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A4E86-6C5C-43FA-ACB4-49BEF693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AE28-69B4-4BA3-A749-F3453326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0867-83AC-46EC-B9CC-E09FA2C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7BCFF-B1CE-4C8D-A093-A60BF18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94C0-1135-4AC2-B314-987A531B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EF705-8629-4AAD-BCAA-4EB7B3C0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EF036-BCB3-4F0E-AF59-0A2B0DD2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48D4F-12A7-410E-AB7E-0418CCC1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DEEA8-E933-425D-8AD4-16CA5D3E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C2A17-D851-43B6-A5BE-2E4D776E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250-2191-4D06-9691-945E0C15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B102D-FD9B-496F-AA12-E214F199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BDAE7-F741-49E4-B1B3-F9802C3F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036D-2BA2-48B8-87D7-13EAA215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79651-8B63-4E25-8331-C96B4951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9D07-3292-4F87-97B0-DFDC665D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C656-9F26-4D74-A00C-A8BB5E23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4298C-B869-4EA5-83F7-594F9EFF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EFAD3-BA6A-4772-8B08-7BB18200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D5EFF-D656-423C-9380-EE0F43DA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AB5-9A60-46B8-A647-12E7FD7B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3B2-F341-4D27-9C62-6DF0B786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777-3BC6-43B3-8DEF-A8739E6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F19-FE32-436F-ACC8-9460560E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D19-09AE-4D0E-862D-FC91F0F9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799C-45A8-464A-BD15-8269EAD4B63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8062-66D4-4605-A6AB-DADCEB6534B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706F-C14D-48AC-851F-94A4D532D02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E0F1-1A46-4259-8CA3-0678657667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Academ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3" descr="ATT00004.gif"/>
          <p:cNvPicPr/>
          <p:nvPr/>
        </p:nvPicPr>
        <p:blipFill>
          <a:blip r:embed="rId2"/>
          <a:stretch/>
        </p:blipFill>
        <p:spPr>
          <a:xfrm>
            <a:off x="1752480" y="914400"/>
            <a:ext cx="575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Content Placeholder 3" descr="ATT00005.gif"/>
          <p:cNvPicPr/>
          <p:nvPr/>
        </p:nvPicPr>
        <p:blipFill>
          <a:blip r:embed="rId2"/>
          <a:stretch/>
        </p:blipFill>
        <p:spPr>
          <a:xfrm>
            <a:off x="1371600" y="433440"/>
            <a:ext cx="44197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Content Placeholder 3" descr="ATT00007.gif"/>
          <p:cNvPicPr/>
          <p:nvPr/>
        </p:nvPicPr>
        <p:blipFill>
          <a:blip r:embed="rId2"/>
          <a:stretch/>
        </p:blipFill>
        <p:spPr>
          <a:xfrm>
            <a:off x="457200" y="2133720"/>
            <a:ext cx="83883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4 A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c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ppropriate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ccountab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ppe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Te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Constantia"/>
              </a:rPr>
              <a:t>"Informed consen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/>
          <p:nvPr/>
        </p:nvSpPr>
        <p:spPr>
          <a:xfrm>
            <a:off x="3338640" y="324576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"Level of perform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4114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"Modified programming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8400" y="198036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Placement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2000" y="380916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Referral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6080" y="4952160"/>
            <a:ext cx="28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"Specialized assessment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62120" y="525708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"Transition planning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mes under Ac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formed Cons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dentific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ssess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pecialized Assess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ight of Access to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ordinated Servic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mes under Appropriatenes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ofessional Standard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arent Involvement in Decision-mak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lace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dividualized Program Planning, Implementation and Evalu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Themes under Accountability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porting - School Board Policy and Procedur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porting to Paren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ogram Monitoring and Evalu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articipation in Provincial Assessmen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mes Under Appe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pecial Education Appeal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o Much Technolog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Content Placeholder 3" descr="ATT00002.gif"/>
          <p:cNvPicPr/>
          <p:nvPr/>
        </p:nvPicPr>
        <p:blipFill>
          <a:blip r:embed="rId2"/>
          <a:stretch/>
        </p:blipFill>
        <p:spPr>
          <a:xfrm>
            <a:off x="1212840" y="603360"/>
            <a:ext cx="55785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1:23:21Z</dcterms:created>
  <dc:creator>Bharati Singh</dc:creator>
  <dc:description/>
  <dc:language>en-US</dc:language>
  <cp:lastModifiedBy>Bharati Singh</cp:lastModifiedBy>
  <dcterms:modified xsi:type="dcterms:W3CDTF">2011-02-25T15:50:59Z</dcterms:modified>
  <cp:revision>7</cp:revision>
  <dc:subject/>
  <dc:title>Standards of Special Education</dc:title>
</cp:coreProperties>
</file>